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wmf" ContentType="image/x-wmf"/>
  <Override PartName="/ppt/media/image8.png" ContentType="image/png"/>
  <Override PartName="/ppt/media/image14.jpeg" ContentType="image/jpeg"/>
  <Override PartName="/ppt/media/image7.png" ContentType="image/png"/>
  <Override PartName="/ppt/media/image20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4.wmf" ContentType="image/x-wmf"/>
  <Override PartName="/ppt/media/image6.png" ContentType="image/png"/>
  <Override PartName="/ppt/media/image19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5626-BCFC-4FD9-9CE9-015BB812F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844D-A466-4A70-BC6C-17CFB8E4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6D36E8-D8B9-4464-84EF-E6941341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ADAE67-006B-4615-83FD-E5444B67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6D0AE7-E3BF-423D-943E-AE657E14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6ADED3-9820-49E0-B89B-4D09BBED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B2413-CF4A-40C2-820C-C29D15C3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D3CEFA-7404-4159-9771-64C9EE13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47909D-54FE-426D-BF5C-08C811EF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9E4CD3-EC1F-480D-A7D7-038BE3C76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4088FA-9941-470E-9F05-8F70CB1C5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9ED574-E357-4AAD-8C33-8BFABC74B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19E5-D0D6-42BD-B577-01234C6AC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28EC23-581D-4EF8-800F-65C4AE8A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F99B40-BBD0-4014-B3DE-AC5E62D9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953FF9-0713-420F-B6F1-EB23F33B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9B7887-0882-45BC-9F71-D0DBE5BF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B1E793-6FFF-48E7-A9B8-98E4302D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8F8084-0799-4F57-BE51-EB63A647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752A14-29A1-4416-B551-C4523863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0A6919-5C6E-4B44-8585-EF7DA4DE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D952CA-6974-412E-8E2B-99864926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347BCE-CF1B-4039-8D61-0DFEBBA36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4099-46C5-42B0-BD3E-E88E75A90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DED1C1-FB59-47F2-91A6-3E7C57E05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125D6F-C868-4FDB-B9D9-9FEDB5D23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E20E90-BB89-4478-9F3C-3151E0AB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A651C6-29CD-4301-B20E-8CE630A0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D7E075-C49A-40AE-A858-CCCDBC6B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ED9E8-C2B3-44A1-9A2D-830286CD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58C95-610F-4159-8608-F6E6E011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02485-4205-4AEE-A93A-0707A49A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B8587B-6B82-4592-B8BB-E9A4A1BD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99690-DAE5-4035-92CC-77B175EE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956F-EBD8-40AD-9CC6-2801DCCA8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18D819-C751-4330-AF7B-15641BA1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D6D5F1-3993-43AF-AB12-86322F88B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54A16A-EE41-4900-8D54-8D167467C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8038C2-1ABD-4781-B1A7-3DE0DCC9C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9A442F-9E28-4C1B-A93A-1983D4E8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D275E9-A4E3-48E5-9FE6-6D0E988E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83E215-5C56-4BF1-B8DC-3E212FF7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F1EE23-5B2D-4BE5-8267-53095205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6F55EF-B287-4088-9599-C08B1855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CFADEE-E569-4195-8B9E-657A6A85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09C7C-9DD3-47F6-98F0-D81A6B08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5B42F6-4676-4DCA-BFD3-C3CDDD8B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4CC23F-97AA-491C-A831-46D375BC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88EB76-B623-4B1A-ACA6-619EF617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468EB5-CA13-45B4-BE3C-BD700CB8D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70553E-CC7A-4C24-A5BC-CC31257CE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79AA-AC54-426D-BF7A-7C204CBC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8672-9F94-4C3F-B1D8-FA137C99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9357A-A7BB-4411-9B13-678339C4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4C11-7780-48D1-8F41-25276918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FD575-7E64-43EF-B246-BE920B71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F218-132D-4EF9-83EB-D876CDB6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387C-5F36-423C-A098-9638132B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D90A-6138-4A9D-BB4E-46031249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AEC9C-AE2B-4884-B71D-F86E3EB4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FF0A-BA88-41E4-A442-9D04BAF6D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8EE0-93CF-46DC-9A4E-A7FCA9634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B8D95-3866-41A7-83FF-1727E398C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F1DB9-864F-449B-B920-820E9D07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05DD4-24CD-4832-85C1-A5A3AEA2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4E561-B14B-4092-9B3E-B5696656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92454-872C-46A5-B3BC-E66A7FEF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C8F9-E456-4C6E-8485-70096476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3C9A9-AADE-4C62-99D2-7969ACB4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BE22F-D39E-48F9-A174-1A9DB788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EF25F-A771-467D-B078-B951AA8C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7F6A9-A582-40F9-9DF8-548CBE95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47AA0-8E8D-4FD7-915B-9157B521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F9336-780D-46E1-BDAE-70B88DDF0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F001C-7259-4280-B780-A5716E9C8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6EFE1-0C36-45D7-8685-68AD459F8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3C07B-6F1F-4FA8-98E1-4BD2EB8D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E2339-BC67-43BF-8AE5-1C909C4A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41D0-AE50-4682-8293-D113E540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B6246-56ED-4252-BBB4-71FFC039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FFB9D-3012-4B54-851C-0F9638B2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14B2E-1DCD-4A18-8379-59E33F53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7AAD7-BC92-4E60-83D3-7BE65527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3FC80-BDB6-436A-AC92-1BD94C9F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0926F-5B83-4095-9C0F-9A8DD39C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B0A48-7FF9-44B9-9121-8B086D32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99311-FF98-4996-AAE6-EA2390E33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9E045-CB19-4B39-8F70-FDD48292C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A73C5-E307-4DEE-870F-920AF40A9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5F40-7672-4E1D-A8BE-E6EA4BCB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571FA-7647-4770-BCE1-E07E1EC9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4053C-4A5A-4B2F-83C3-68E0BDEF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E9FB7-4DB3-473D-B58E-4749BA51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316F1-5EB6-4FBD-92FC-F80E0CB3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72C2B-A60C-45E6-B3DB-5483C88A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1D6E7-C02F-407C-8FFD-AEB96D52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C1607-4943-43E1-9AC9-E04DC7F6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4BAFF-D61A-47BF-A4D7-5A0C6BD9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72285-C808-4680-9C03-98E49165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4DA2C-4781-463C-A9A5-58D1EC819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C270-2B94-4079-8962-67C40DF7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3B16D-10AB-48F3-87BE-8BECB4CA4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CAF84-47DF-4BA4-A7CF-FA30375A7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AA0F5-380A-45DC-B18F-151F2DFC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870E3-B369-44D8-BD26-3F22245D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729B6-70BD-4606-A2C6-3E19C6B8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B850A-6C79-45F2-B5F0-D4BCE335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1B4ED-4392-4772-A01B-A5698B09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53567-8298-4773-AFD6-E1B1A6EB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EC85A-90C0-4B5F-B906-6FE26E07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B8A6F-11A7-4F6E-A3E7-3E92BCB2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8C68-C9F0-4B78-BA52-D1BCE829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89552-CE6E-4BD7-85CA-5528336A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BA2CC-8423-4C7C-937F-77CE7FFF7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F7731-0857-4B91-9516-C2105C1D1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C8B8F-A23E-4C0F-9961-65793E621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FDF1C-8344-4B1C-8238-19E15AF2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CDA95-5250-4C90-B3E9-A989DF99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DE9EE-B924-4BCB-B725-00BF2DDF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4E008-59B9-4899-9736-D10E41F7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D4E13-B77E-4A4E-8565-6AA83ABA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92AB3-7B92-4B4F-9174-4B55DC8D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085C-C6D9-4874-B76D-3FA88CF8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CE0D4-49F3-4670-9888-FD3A4B67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2072E-9406-4658-98FA-1603328D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3AC0A-E9E1-4046-BE5A-A683ADEC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0215E-C772-4451-A648-299A987E5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7B10D-0B5E-4200-8F6E-5586F1EDD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8CD17-53D9-4BFD-B502-5C845EFC3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2BC5F5-5A86-4E8C-831D-306666FE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C5A80-D8F5-4B22-B3FA-C49F9BC5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F800A-33F8-412E-9219-9119F132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0294A-2A52-4D28-8B8A-9AD00461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F6A4-23B3-4F91-95A6-F3C6C050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EF78E-5C66-4909-BF20-6BA21235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0A236-F731-43DF-A77C-66ACE717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24E28-DACC-4551-90C0-555DD2F4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DDD40-CCFC-4CEF-950D-DE7C1B6F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858DE-1AEC-48EE-9627-3AD9E1D9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8A0F4-EB3A-411F-8911-C30DE1791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4D2E3-ED51-4534-A148-3AF243CD2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3C0524-BED3-444A-AE95-6C2D6B1CD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5F0247-C943-4C10-90D8-6738A44F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7CB432-7D97-4A7A-9395-6E71743A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6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slideLayout" Target="../slideLayouts/slideLayout85.xml"/><Relationship Id="rId32" Type="http://schemas.openxmlformats.org/officeDocument/2006/relationships/slideLayout" Target="../slideLayouts/slideLayout86.xml"/><Relationship Id="rId33" Type="http://schemas.openxmlformats.org/officeDocument/2006/relationships/slideLayout" Target="../slideLayouts/slideLayout87.xml"/><Relationship Id="rId34" Type="http://schemas.openxmlformats.org/officeDocument/2006/relationships/slideLayout" Target="../slideLayouts/slideLayout88.xml"/><Relationship Id="rId35" Type="http://schemas.openxmlformats.org/officeDocument/2006/relationships/slideLayout" Target="../slideLayouts/slideLayout89.xml"/><Relationship Id="rId36" Type="http://schemas.openxmlformats.org/officeDocument/2006/relationships/slideLayout" Target="../slideLayouts/slideLayout90.xml"/><Relationship Id="rId37" Type="http://schemas.openxmlformats.org/officeDocument/2006/relationships/slideLayout" Target="../slideLayouts/slideLayout91.xml"/><Relationship Id="rId38" Type="http://schemas.openxmlformats.org/officeDocument/2006/relationships/slideLayout" Target="../slideLayouts/slideLayout92.xml"/><Relationship Id="rId39" Type="http://schemas.openxmlformats.org/officeDocument/2006/relationships/slideLayout" Target="../slideLayouts/slideLayout93.xml"/><Relationship Id="rId40" Type="http://schemas.openxmlformats.org/officeDocument/2006/relationships/slideLayout" Target="../slideLayouts/slideLayout94.xml"/><Relationship Id="rId41" Type="http://schemas.openxmlformats.org/officeDocument/2006/relationships/slideLayout" Target="../slideLayouts/slideLayout95.xml"/><Relationship Id="rId4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93DF-B470-4E46-92C9-8117FFE9A023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63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A03D-0E3A-400B-97F0-A5B1188B0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1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508C-4383-4CFF-95BA-D645DE3F0B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7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2793-DF1A-4CA2-B514-A7F2DEA542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3B0E-2170-4F41-B062-E9E335A61BCB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50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7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9D8F4-70C7-4970-9BED-8DD67AF3A5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3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6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E3E2-FEEE-49F6-A7DD-F747F78483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13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15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26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27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46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64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grpSp>
            <p:nvGrpSpPr>
              <p:cNvPr id="571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72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0CA7-FEF0-4383-B270-DEBC65F1F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18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20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32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651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669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grpSp>
            <p:nvGrpSpPr>
              <p:cNvPr id="676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84AA-98BD-41BB-8703-D4DDAD662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72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72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72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72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2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72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73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4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74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76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961A-61DB-486F-BD81-99DA9C7F606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81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82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82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82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82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2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83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4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84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6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ABA0-C831-4239-BCCA-E4926F1740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1"/>
    <p:sldLayoutId id="2147483741" r:id="rId32"/>
    <p:sldLayoutId id="2147483742" r:id="rId33"/>
    <p:sldLayoutId id="2147483743" r:id="rId34"/>
    <p:sldLayoutId id="2147483744" r:id="rId35"/>
    <p:sldLayoutId id="2147483745" r:id="rId36"/>
    <p:sldLayoutId id="2147483746" r:id="rId37"/>
    <p:sldLayoutId id="2147483747" r:id="rId38"/>
    <p:sldLayoutId id="2147483748" r:id="rId39"/>
    <p:sldLayoutId id="2147483749" r:id="rId40"/>
    <p:sldLayoutId id="2147483750" r:id="rId41"/>
    <p:sldLayoutId id="2147483751" r:id="rId4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13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921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19A2-1FD4-4FCE-9E4C-506AE8D83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ff"/>
              </a:solidFill>
              <a:latin typeface="Bradley Hand ITC"/>
            </a:endParaRPr>
          </a:p>
        </p:txBody>
      </p:sp>
      <p:pic>
        <p:nvPicPr>
          <p:cNvPr id="1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1" name=""/>
          <p:cNvSpPr/>
          <p:nvPr/>
        </p:nvSpPr>
        <p:spPr>
          <a:xfrm>
            <a:off x="2362320" y="1905120"/>
            <a:ext cx="510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El Proyecto de Espanol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828800" y="4419720"/>
            <a:ext cx="5715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By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NISHA PAT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PENNY KOURNIOTI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4fe"/>
                </a:solidFill>
                <a:latin typeface="Arial Black"/>
              </a:rPr>
              <a:t>Willard Mitt Romne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	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5" name=""/>
          <p:cNvSpPr/>
          <p:nvPr/>
        </p:nvSpPr>
        <p:spPr>
          <a:xfrm>
            <a:off x="2666880" y="2209680"/>
            <a:ext cx="594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3200400" y="1981080"/>
            <a:ext cx="5486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64fe"/>
                </a:solidFill>
                <a:latin typeface="Arial"/>
              </a:rPr>
              <a:t>Willard Mitt Romney es de Michigan, y Americano. El quiere ser presidente. El tiene sesntaicio anos. Mitt Romney es alto. De ninguna manera perezoso. El es un Republicano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37" name="" descr="File:Mitt Romney by Gage Skidmore 6.jpg"/>
          <p:cNvPicPr/>
          <p:nvPr/>
        </p:nvPicPr>
        <p:blipFill>
          <a:blip r:embed="rId1"/>
          <a:stretch/>
        </p:blipFill>
        <p:spPr>
          <a:xfrm>
            <a:off x="304920" y="1905120"/>
            <a:ext cx="2624040" cy="3462120"/>
          </a:xfrm>
          <a:prstGeom prst="rect">
            <a:avLst/>
          </a:prstGeom>
          <a:ln w="0">
            <a:noFill/>
          </a:ln>
        </p:spPr>
      </p:pic>
      <p:pic>
        <p:nvPicPr>
          <p:cNvPr id="1138" name="" descr="Republicanlogo.svg"/>
          <p:cNvPicPr/>
          <p:nvPr/>
        </p:nvPicPr>
        <p:blipFill>
          <a:blip r:embed="rId2"/>
          <a:stretch/>
        </p:blipFill>
        <p:spPr>
          <a:xfrm>
            <a:off x="6781680" y="4800600"/>
            <a:ext cx="2095560" cy="1819440"/>
          </a:xfrm>
          <a:prstGeom prst="rect">
            <a:avLst/>
          </a:prstGeom>
          <a:ln w="0">
            <a:noFill/>
          </a:ln>
        </p:spPr>
      </p:pic>
      <p:pic>
        <p:nvPicPr>
          <p:cNvPr id="1139" name="" descr=""/>
          <p:cNvPicPr/>
          <p:nvPr/>
        </p:nvPicPr>
        <p:blipFill>
          <a:blip r:embed="rId3"/>
          <a:stretch/>
        </p:blipFill>
        <p:spPr>
          <a:xfrm>
            <a:off x="3352680" y="4876920"/>
            <a:ext cx="2971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idia Bastiani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141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2908440" cy="3152880"/>
          </a:xfrm>
          <a:prstGeom prst="rect">
            <a:avLst/>
          </a:prstGeom>
          <a:ln w="0">
            <a:noFill/>
          </a:ln>
        </p:spPr>
      </p:pic>
      <p:sp>
        <p:nvSpPr>
          <p:cNvPr id="1142" name=""/>
          <p:cNvSpPr/>
          <p:nvPr/>
        </p:nvSpPr>
        <p:spPr>
          <a:xfrm>
            <a:off x="3581280" y="167652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Lidia Bastianich es cocinera. Ella es de Italia. Lidia es muy gorda, morena, y baja. No es perezosa, flanca, y linda. Es Italiana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43" name="" descr=""/>
          <p:cNvPicPr/>
          <p:nvPr/>
        </p:nvPicPr>
        <p:blipFill>
          <a:blip r:embed="rId2"/>
          <a:stretch/>
        </p:blipFill>
        <p:spPr>
          <a:xfrm>
            <a:off x="6248520" y="4648320"/>
            <a:ext cx="2590560" cy="1900080"/>
          </a:xfrm>
          <a:prstGeom prst="rect">
            <a:avLst/>
          </a:prstGeom>
          <a:ln w="0">
            <a:noFill/>
          </a:ln>
        </p:spPr>
      </p:pic>
      <p:sp>
        <p:nvSpPr>
          <p:cNvPr id="1144" name=""/>
          <p:cNvSpPr/>
          <p:nvPr/>
        </p:nvSpPr>
        <p:spPr>
          <a:xfrm>
            <a:off x="4952880" y="1676520"/>
            <a:ext cx="3826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Vincent Van Gogh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146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236680" cy="2733840"/>
          </a:xfrm>
          <a:prstGeom prst="rect">
            <a:avLst/>
          </a:prstGeom>
          <a:ln w="0">
            <a:noFill/>
          </a:ln>
        </p:spPr>
      </p:pic>
      <p:sp>
        <p:nvSpPr>
          <p:cNvPr id="1147" name=""/>
          <p:cNvSpPr/>
          <p:nvPr/>
        </p:nvSpPr>
        <p:spPr>
          <a:xfrm>
            <a:off x="2819520" y="228600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Vincent es de Holandea, y Holandes. Es flanco, moreno, y muy antipatico. No es gordo, rubio, y perezoso. Vincent es pintoro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48" name="" descr=""/>
          <p:cNvPicPr/>
          <p:nvPr/>
        </p:nvPicPr>
        <p:blipFill>
          <a:blip r:embed="rId2"/>
          <a:stretch/>
        </p:blipFill>
        <p:spPr>
          <a:xfrm>
            <a:off x="4952880" y="4876920"/>
            <a:ext cx="2362320" cy="17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en-US" sz="4400" spc="-1" strike="noStrike">
                <a:solidFill>
                  <a:srgbClr val="00ffff"/>
                </a:solidFill>
                <a:latin typeface="Arial Black"/>
              </a:rPr>
              <a:t>Leanardo Da Vinc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2381400" cy="3233880"/>
          </a:xfrm>
          <a:prstGeom prst="rect">
            <a:avLst/>
          </a:prstGeom>
          <a:ln w="0">
            <a:noFill/>
          </a:ln>
        </p:spPr>
      </p:pic>
      <p:sp>
        <p:nvSpPr>
          <p:cNvPr id="1151" name=""/>
          <p:cNvSpPr/>
          <p:nvPr/>
        </p:nvSpPr>
        <p:spPr>
          <a:xfrm>
            <a:off x="3505320" y="2057400"/>
            <a:ext cx="434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Leanardo da vinci es de Italia. Es muy feo, ambicioco, y rubio. No es guapo, perezoso, y moreno. Leanardo es Italiano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52" name="" descr=""/>
          <p:cNvPicPr/>
          <p:nvPr/>
        </p:nvPicPr>
        <p:blipFill>
          <a:blip r:embed="rId2"/>
          <a:stretch/>
        </p:blipFill>
        <p:spPr>
          <a:xfrm>
            <a:off x="6934320" y="4038480"/>
            <a:ext cx="19159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Queen of England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154" name="" descr=""/>
          <p:cNvPicPr/>
          <p:nvPr/>
        </p:nvPicPr>
        <p:blipFill>
          <a:blip r:embed="rId1"/>
          <a:stretch/>
        </p:blipFill>
        <p:spPr>
          <a:xfrm>
            <a:off x="228600" y="2421000"/>
            <a:ext cx="3048120" cy="2119320"/>
          </a:xfrm>
          <a:prstGeom prst="rect">
            <a:avLst/>
          </a:prstGeom>
          <a:ln w="0">
            <a:noFill/>
          </a:ln>
        </p:spPr>
      </p:pic>
      <p:sp>
        <p:nvSpPr>
          <p:cNvPr id="1155" name=""/>
          <p:cNvSpPr/>
          <p:nvPr/>
        </p:nvSpPr>
        <p:spPr>
          <a:xfrm>
            <a:off x="4038480" y="2666880"/>
            <a:ext cx="426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lizabeth es de England. Ella es fea, ambisioca, y muchacha. Ella no es bonita, perezosa, y muchacho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56" name="" descr=""/>
          <p:cNvPicPr/>
          <p:nvPr/>
        </p:nvPicPr>
        <p:blipFill>
          <a:blip r:embed="rId2"/>
          <a:stretch/>
        </p:blipFill>
        <p:spPr>
          <a:xfrm>
            <a:off x="5181480" y="4876920"/>
            <a:ext cx="3667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4T17:34:12Z</dcterms:created>
  <dc:creator>patelnis</dc:creator>
  <dc:description/>
  <dc:language>en-US</dc:language>
  <cp:lastModifiedBy>patelnis</cp:lastModifiedBy>
  <dcterms:modified xsi:type="dcterms:W3CDTF">2012-10-10T19:18:05Z</dcterms:modified>
  <cp:revision>6</cp:revision>
  <dc:subject/>
  <dc:title>Es Spanish Projecto</dc:title>
</cp:coreProperties>
</file>